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FC8123-B8D5-49EF-9AA4-6DB279F4F3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0"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DB5EE3-374A-4980-BDCA-7A4C848E7E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3"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5"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6"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89D11D-E71E-456E-8BF8-69AE1CEB3B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8"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0"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1"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3C33D1-D5B5-48E3-B50F-78BC3F8C7B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E93FB3-B862-480C-8695-E4C761BCE6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3"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5E878B-1700-4508-AFDC-376C978506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984454-0AE9-4E98-8DE7-F0ACB2FB65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7"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8"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3C8BD1-280D-4C85-AA85-D2B7E607FE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E62A2B-EE9F-438E-894E-617938BAB8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0DABF5-2A98-4671-826F-CF015D5C14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2"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3"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95124E-46AA-4DA0-9CE9-89A88363C7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7E450-DA4C-42BD-A439-D9518717CD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6"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8"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5BCCB0-CC33-4224-AEAA-93B12BF101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0"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1"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2"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A695E5-8666-4D61-AF1C-6CE32179CE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4"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5"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1477CA-AD7F-467C-AE32-96E91007D1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7"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8"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9"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0"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746CF6-3517-4197-B606-DDE289CB95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82"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3"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4"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5"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6"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7"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2A9C0D-6981-44CE-B8D3-06AD857C0F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4DA63C-B8DD-4BC8-BCA4-2E6AFC61C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3"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4"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6E2FE9-6609-4CE1-A2E2-A907FFBEB2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2A609B-ABD9-470E-8FF5-090C3390A2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2B1A2F-389F-4F2C-81C6-91DBC58B19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8"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9"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0"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1C248-0111-4BB8-AA5D-805B73FA6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2"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4"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E7476-246C-4086-A386-3DF8691DC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6"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8"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FD886-B4C8-4C09-B6E6-CA18C832FE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7920" y="1636560"/>
            <a:ext cx="9148680" cy="4618080"/>
            <a:chOff x="-7920" y="1636560"/>
            <a:chExt cx="9148680" cy="4618080"/>
          </a:xfrm>
        </p:grpSpPr>
        <p:pic>
          <p:nvPicPr>
            <p:cNvPr id="1" name="ARTHSEPA" descr=""/>
            <p:cNvPicPr/>
            <p:nvPr/>
          </p:nvPicPr>
          <p:blipFill>
            <a:blip r:embed="rId3"/>
            <a:stretch/>
          </p:blipFill>
          <p:spPr>
            <a:xfrm>
              <a:off x="5997600" y="6180120"/>
              <a:ext cx="3143160" cy="74520"/>
            </a:xfrm>
            <a:prstGeom prst="rect">
              <a:avLst/>
            </a:prstGeom>
            <a:ln w="0">
              <a:noFill/>
            </a:ln>
          </p:spPr>
        </p:pic>
        <p:pic>
          <p:nvPicPr>
            <p:cNvPr id="2" name="Arthsepa" descr=""/>
            <p:cNvPicPr/>
            <p:nvPr/>
          </p:nvPicPr>
          <p:blipFill>
            <a:blip r:embed="rId4"/>
            <a:stretch/>
          </p:blipFill>
          <p:spPr>
            <a:xfrm>
              <a:off x="-7920" y="1636560"/>
              <a:ext cx="4495680" cy="96840"/>
            </a:xfrm>
            <a:prstGeom prst="rect">
              <a:avLst/>
            </a:prstGeom>
            <a:ln w="0">
              <a:noFill/>
            </a:ln>
          </p:spPr>
        </p:pic>
      </p:grpSp>
      <p:sp>
        <p:nvSpPr>
          <p:cNvPr id="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99000"/>
          </a:bodyPr>
          <a:p>
            <a:pPr marL="339480" indent="-3394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35480" indent="-28296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31480" indent="-226080">
              <a:spcBef>
                <a:spcPts val="799"/>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584000" indent="-22608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36520" indent="-226080">
              <a:spcBef>
                <a:spcPts val="799"/>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36520" indent="-226080">
              <a:spcBef>
                <a:spcPts val="7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5" name="PlaceHolder 3"/>
          <p:cNvSpPr>
            <a:spLocks noGrp="1"/>
          </p:cNvSpPr>
          <p:nvPr>
            <p:ph type="dt" idx="1"/>
          </p:nvPr>
        </p:nvSpPr>
        <p:spPr>
          <a:xfrm>
            <a:off x="3433680" y="6343560"/>
            <a:ext cx="190512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6108480" y="6343560"/>
            <a:ext cx="289548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145800" y="6361200"/>
            <a:ext cx="190476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9B39E-FA81-414C-A415-35C4512ED88C}" type="slidenum">
              <a:rPr b="0" lang="en-US" sz="2400" spc="-1" strike="noStrike">
                <a:solidFill>
                  <a:srgbClr val="ffffcc"/>
                </a:solidFill>
                <a:latin typeface="Times New Roman"/>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
          <p:cNvGrpSpPr/>
          <p:nvPr/>
        </p:nvGrpSpPr>
        <p:grpSpPr>
          <a:xfrm>
            <a:off x="0" y="0"/>
            <a:ext cx="9144000" cy="3365640"/>
            <a:chOff x="0" y="0"/>
            <a:chExt cx="9144000" cy="3365640"/>
          </a:xfrm>
        </p:grpSpPr>
        <p:pic>
          <p:nvPicPr>
            <p:cNvPr id="45" name="ARTBANNA" descr=""/>
            <p:cNvPicPr/>
            <p:nvPr/>
          </p:nvPicPr>
          <p:blipFill>
            <a:blip r:embed="rId3"/>
            <a:srcRect l="8126" t="0" r="0" b="0"/>
            <a:stretch/>
          </p:blipFill>
          <p:spPr>
            <a:xfrm>
              <a:off x="0" y="0"/>
              <a:ext cx="9144000" cy="914400"/>
            </a:xfrm>
            <a:prstGeom prst="rect">
              <a:avLst/>
            </a:prstGeom>
            <a:ln w="0">
              <a:noFill/>
            </a:ln>
          </p:spPr>
        </p:pic>
        <p:pic>
          <p:nvPicPr>
            <p:cNvPr id="46" name="Arthsepa" descr=""/>
            <p:cNvPicPr/>
            <p:nvPr/>
          </p:nvPicPr>
          <p:blipFill>
            <a:blip r:embed="rId4"/>
            <a:stretch/>
          </p:blipFill>
          <p:spPr>
            <a:xfrm>
              <a:off x="4267080" y="3268800"/>
              <a:ext cx="4496040" cy="96840"/>
            </a:xfrm>
            <a:prstGeom prst="rect">
              <a:avLst/>
            </a:prstGeom>
            <a:ln w="0">
              <a:noFill/>
            </a:ln>
          </p:spPr>
        </p:pic>
      </p:grpSp>
      <p:sp>
        <p:nvSpPr>
          <p:cNvPr id="47"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8" name="PlaceHolder 2"/>
          <p:cNvSpPr>
            <a:spLocks noGrp="1"/>
          </p:cNvSpPr>
          <p:nvPr>
            <p:ph type="dt" idx="4"/>
          </p:nvPr>
        </p:nvSpPr>
        <p:spPr>
          <a:xfrm>
            <a:off x="3359160" y="6343560"/>
            <a:ext cx="190512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6019560" y="6343560"/>
            <a:ext cx="289548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125280" y="636120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80DF2-4F82-4AAC-B3EC-81CB83EE90B9}" type="slidenum">
              <a:rPr b="0" lang="en-US" sz="2400" spc="-1" strike="noStrike">
                <a:solidFill>
                  <a:srgbClr val="ffffcc"/>
                </a:solidFill>
                <a:latin typeface="Times New Roman"/>
              </a:rPr>
              <a:t>&lt;number&gt;</a:t>
            </a:fld>
            <a:endParaRPr b="0" lang="en-US" sz="2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econd Outline Level</a:t>
            </a:r>
            <a:endParaRPr b="0" lang="en-US" sz="2800" spc="-1" strike="noStrike">
              <a:solidFill>
                <a:srgbClr val="ffffcc"/>
              </a:solidFill>
              <a:latin typeface="Arial"/>
            </a:endParaRPr>
          </a:p>
          <a:p>
            <a:pPr lvl="2" marL="914400" algn="ctr">
              <a:spcBef>
                <a:spcPts val="601"/>
              </a:spcBef>
              <a:buClr>
                <a:srgbClr val="0099c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Third Outline Level</a:t>
            </a:r>
            <a:endParaRPr b="0" lang="en-US" sz="2400" spc="-1" strike="noStrike">
              <a:solidFill>
                <a:srgbClr val="ffffcc"/>
              </a:solidFill>
              <a:latin typeface="Arial"/>
            </a:endParaRPr>
          </a:p>
          <a:p>
            <a:pPr lvl="3" marL="1371600" algn="ctr">
              <a:spcBef>
                <a:spcPts val="499"/>
              </a:spcBef>
              <a:buClr>
                <a:srgbClr val="ffcc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ourth Outline Level</a:t>
            </a:r>
            <a:endParaRPr b="0" lang="en-US" sz="2000" spc="-1" strike="noStrike">
              <a:solidFill>
                <a:srgbClr val="ffffcc"/>
              </a:solidFill>
              <a:latin typeface="Arial"/>
            </a:endParaRPr>
          </a:p>
          <a:p>
            <a:pPr lvl="4" marL="1828800" algn="ctr">
              <a:spcBef>
                <a:spcPts val="499"/>
              </a:spcBef>
              <a:buClr>
                <a:srgbClr val="cc66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Fifth Outline Level</a:t>
            </a:r>
            <a:endParaRPr b="0" lang="en-US" sz="2000" spc="-1" strike="noStrike">
              <a:solidFill>
                <a:srgbClr val="ffffcc"/>
              </a:solidFill>
              <a:latin typeface="Arial"/>
            </a:endParaRPr>
          </a:p>
          <a:p>
            <a:pPr lvl="5" marL="182880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ixth Outline Level</a:t>
            </a:r>
            <a:endParaRPr b="0" lang="en-US" sz="2000" spc="-1" strike="noStrike">
              <a:solidFill>
                <a:srgbClr val="ffffcc"/>
              </a:solidFill>
              <a:latin typeface="Arial"/>
            </a:endParaRPr>
          </a:p>
          <a:p>
            <a:pPr lvl="6" marL="1828800">
              <a:spcBef>
                <a:spcPts val="49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Arial"/>
              </a:rPr>
              <a:t>Seventh Outline Level</a:t>
            </a:r>
            <a:endParaRPr b="0" lang="en-US" sz="20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90476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Pollution</a:t>
            </a:r>
            <a:endParaRPr b="0" lang="en-US" sz="4400" spc="-1" strike="noStrike">
              <a:solidFill>
                <a:srgbClr val="ffcc00"/>
              </a:solidFill>
              <a:latin typeface="Arial"/>
            </a:endParaRPr>
          </a:p>
        </p:txBody>
      </p:sp>
      <p:sp>
        <p:nvSpPr>
          <p:cNvPr id="89" name="PlaceHolder 2"/>
          <p:cNvSpPr>
            <a:spLocks noGrp="1"/>
          </p:cNvSpPr>
          <p:nvPr>
            <p:ph type="subTitle"/>
          </p:nvPr>
        </p:nvSpPr>
        <p:spPr>
          <a:xfrm>
            <a:off x="2685600" y="3492000"/>
            <a:ext cx="6102360" cy="1752840"/>
          </a:xfrm>
          <a:prstGeom prst="rect">
            <a:avLst/>
          </a:prstGeom>
          <a:solidFill>
            <a:srgbClr val="ffffff"/>
          </a:solidFill>
          <a:ln w="9360">
            <a:solidFill>
              <a:srgbClr val="000000"/>
            </a:solidFill>
            <a:miter/>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Lobosco</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Hazardous Wastes</a:t>
            </a:r>
            <a:endParaRPr b="0" lang="en-US" sz="4400" spc="-1" strike="noStrike">
              <a:solidFill>
                <a:srgbClr val="ffcc00"/>
              </a:solidFill>
              <a:latin typeface="Arial"/>
            </a:endParaRPr>
          </a:p>
        </p:txBody>
      </p:sp>
      <p:sp>
        <p:nvSpPr>
          <p:cNvPr id="106"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Wastes from factories may pollute the land with toxic chemicals, called hazardous wastes. Hazardous wastes can cause death or serious damage to human health. Factories that produce fuels and petrochemicals from petroleum are the major sources of hazardous waste.  When improperly stored in barrels buried in dumps, the wastes seep into the soil.</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17160" y="49320"/>
            <a:ext cx="863748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Management of Hazardous Wastes</a:t>
            </a:r>
            <a:endParaRPr b="0" lang="en-US" sz="4400" spc="-1" strike="noStrike">
              <a:solidFill>
                <a:srgbClr val="ffcc00"/>
              </a:solidFill>
              <a:latin typeface="Arial"/>
            </a:endParaRPr>
          </a:p>
        </p:txBody>
      </p:sp>
      <p:sp>
        <p:nvSpPr>
          <p:cNvPr id="108"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e best solution is to produce less hazardous wastes.</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In some cases, industries can reuse the wastes.</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Other wastes might be chemically treated to change the toxic substances they contain into nontoxic substances.</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Radioactive Wastes</a:t>
            </a:r>
            <a:endParaRPr b="0" lang="en-US" sz="4400" spc="-1" strike="noStrike">
              <a:solidFill>
                <a:srgbClr val="ffcc00"/>
              </a:solidFill>
              <a:latin typeface="Arial"/>
            </a:endParaRPr>
          </a:p>
        </p:txBody>
      </p:sp>
      <p:sp>
        <p:nvSpPr>
          <p:cNvPr id="110"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Radioactive wastes are the wastes produced as a result of the production of energy in nuclear power plants.  Radioactive wastes are classified as either high-level or low-level.  High-level wastes are primarily the used fuel rods from a nuclear reactor.  Low-level wastes may include contaminated equipment used in the power plant.  </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Disposing of Radioactive Wastes</a:t>
            </a:r>
            <a:endParaRPr b="0" lang="en-US" sz="4400" spc="-1" strike="noStrike">
              <a:solidFill>
                <a:srgbClr val="ffcc00"/>
              </a:solidFill>
              <a:latin typeface="Arial"/>
            </a:endParaRPr>
          </a:p>
        </p:txBody>
      </p:sp>
      <p:sp>
        <p:nvSpPr>
          <p:cNvPr id="112"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Low-level wastes decay quickly.  High-level wastes may of half-lives of 10,000 years or more.  Isolating them from the environment for that length of time is almost impossible.  In the past, high-level wastes were sealed in concrete or glass containers.  The containers usually began to corrode or leak.  </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New Method of Disposal </a:t>
            </a:r>
            <a:endParaRPr b="0" lang="en-US" sz="4400" spc="-1" strike="noStrike">
              <a:solidFill>
                <a:srgbClr val="ffcc00"/>
              </a:solidFill>
              <a:latin typeface="Arial"/>
            </a:endParaRPr>
          </a:p>
        </p:txBody>
      </p:sp>
      <p:sp>
        <p:nvSpPr>
          <p:cNvPr id="114"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 new method of disposal has been proposed.  Wastes can be buried in rock formations that are not subject to movement of in salt mines.  This is known as Geologic disposal.  Disposal in ocean beds is another alternative.  Some scientists have suggested shooting rockets carrying high-level wastes into the sun.</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olid Wastes</a:t>
            </a:r>
            <a:endParaRPr b="0" lang="en-US" sz="4400" spc="-1" strike="noStrike">
              <a:solidFill>
                <a:srgbClr val="ffcc00"/>
              </a:solidFill>
              <a:latin typeface="Arial"/>
            </a:endParaRPr>
          </a:p>
        </p:txBody>
      </p:sp>
      <p:sp>
        <p:nvSpPr>
          <p:cNvPr id="116"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mericans produce about 11 billion tons of solid wastes every year.  Solid wastes are useless, unwanted or discarded materials.  They include agricultural wastes, commercial and industrial wastes and household wastes.  Another word for solid waste is garbage. Mountains of garbage once surrounded cities.</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anitary Landfills</a:t>
            </a:r>
            <a:endParaRPr b="0" lang="en-US" sz="4400" spc="-1" strike="noStrike">
              <a:solidFill>
                <a:srgbClr val="ffcc00"/>
              </a:solidFill>
              <a:latin typeface="Arial"/>
            </a:endParaRPr>
          </a:p>
        </p:txBody>
      </p:sp>
      <p:sp>
        <p:nvSpPr>
          <p:cNvPr id="118"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One way to deal with solid waste dumps is to cover them with thick layers of soil.  In 1976 the United States Congress prohibited open dumps.  They ruled that all existing open dumps were to be converted to sanitary landfills. All garbage is compacted and covered at least once a day with a layer of soil. Once filled they can be used as parks.</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Problems with Landfills</a:t>
            </a:r>
            <a:endParaRPr b="0" lang="en-US" sz="4400" spc="-1" strike="noStrike">
              <a:solidFill>
                <a:srgbClr val="ffcc00"/>
              </a:solidFill>
              <a:latin typeface="Arial"/>
            </a:endParaRPr>
          </a:p>
        </p:txBody>
      </p:sp>
      <p:sp>
        <p:nvSpPr>
          <p:cNvPr id="120"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 problem with sanitary landfills is that when compacted garbage begins to decompose and methane gas is produced. It burns easily and is a fire hazard. Gas wells need to be installed.  Wastes can ooze out of landfills and pollute the surrounding soil.  The biggest problem is finding a place to put them.</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Ocean Dumping</a:t>
            </a:r>
            <a:endParaRPr b="0" lang="en-US" sz="4400" spc="-1" strike="noStrike">
              <a:solidFill>
                <a:srgbClr val="ffcc00"/>
              </a:solidFill>
              <a:latin typeface="Arial"/>
            </a:endParaRPr>
          </a:p>
        </p:txBody>
      </p:sp>
      <p:sp>
        <p:nvSpPr>
          <p:cNvPr id="122"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t one time, solid wastes were commonly towed offshore and dumped into the ocean.  Much of the debris has washed up on beaches. Today some debris is still dumped.</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Burning Garbage</a:t>
            </a:r>
            <a:endParaRPr b="0" lang="en-US" sz="4400" spc="-1" strike="noStrike">
              <a:solidFill>
                <a:srgbClr val="ffcc00"/>
              </a:solidFill>
              <a:latin typeface="Arial"/>
            </a:endParaRPr>
          </a:p>
        </p:txBody>
      </p:sp>
      <p:sp>
        <p:nvSpPr>
          <p:cNvPr id="124"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Burning garbage in open dumps and in the incinerators of apartment buildings and hospitals was used at one time.  Because burning releases harmful gases, the practice is being halted.  Sometimes the old incinerators are replaced with highly efficient incinerators.  Some buildings use waste to energy incinerators.  The heat produced is used to convert water into steam which is then used to generate electricity or heat the building.</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he Balance of the Environment</a:t>
            </a:r>
            <a:endParaRPr b="0" lang="en-US" sz="4400" spc="-1" strike="noStrike">
              <a:solidFill>
                <a:srgbClr val="ffcc00"/>
              </a:solidFill>
              <a:latin typeface="Arial"/>
            </a:endParaRPr>
          </a:p>
        </p:txBody>
      </p:sp>
      <p:sp>
        <p:nvSpPr>
          <p:cNvPr id="9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e balance of the environment can be upset by the way in which humans obtain and use natural resources.  If humans use renewable natural resources faster than they can be replaced, the balance will be upset.  If we damage one resource in the process of obtaining or using another resource, the balance will be upset.  </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Recycling Solid Waste</a:t>
            </a:r>
            <a:endParaRPr b="0" lang="en-US" sz="4400" spc="-1" strike="noStrike">
              <a:solidFill>
                <a:srgbClr val="ffcc00"/>
              </a:solidFill>
              <a:latin typeface="Arial"/>
            </a:endParaRPr>
          </a:p>
        </p:txBody>
      </p:sp>
      <p:sp>
        <p:nvSpPr>
          <p:cNvPr id="126"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Most environmentalists prefer recycling.  Recycling not only gets rid of solid waste but also creates useful materials.</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Air Pollution</a:t>
            </a:r>
            <a:endParaRPr b="0" lang="en-US" sz="44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Air Pollution</a:t>
            </a:r>
            <a:endParaRPr b="0" lang="en-US" sz="4400" spc="-1" strike="noStrike">
              <a:solidFill>
                <a:srgbClr val="ffcc00"/>
              </a:solidFill>
              <a:latin typeface="Arial"/>
            </a:endParaRPr>
          </a:p>
        </p:txBody>
      </p:sp>
      <p:sp>
        <p:nvSpPr>
          <p:cNvPr id="129"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The most significant source of air pollution is motor vehicles. The air is made up of oxygen, nitrogen, carbon dioxide, and water vapor.  When fossil fuels are burned, pollutants enter the air.  The gasoline burned in the engines of automobiles contains hydrocarbons.  Pollution occurs when the gasoline is not completely burned in the engine. Some hydrocarbons as well as carbon monoxide enter the air.</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mog</a:t>
            </a:r>
            <a:endParaRPr b="0" lang="en-US" sz="4400" spc="-1" strike="noStrike">
              <a:solidFill>
                <a:srgbClr val="ffcc00"/>
              </a:solidFill>
              <a:latin typeface="Arial"/>
            </a:endParaRPr>
          </a:p>
        </p:txBody>
      </p:sp>
      <p:sp>
        <p:nvSpPr>
          <p:cNvPr id="13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Hydrocarbons, carbon monoxide and several other gases often react in sunlight to form a thick brownish haze called smog.  Smog contains chemicals that irritate the eyes and make breathing difficult. Smog is very dangerous for people with asthma.  Smog can also damage or kill plants. Smog can build up in a temperature inversion. This happens  in Los Angeles.</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emperature Inversion</a:t>
            </a:r>
            <a:endParaRPr b="0" lang="en-US" sz="4400" spc="-1" strike="noStrike">
              <a:solidFill>
                <a:srgbClr val="ffcc00"/>
              </a:solidFill>
              <a:latin typeface="Arial"/>
            </a:endParaRPr>
          </a:p>
        </p:txBody>
      </p:sp>
      <p:sp>
        <p:nvSpPr>
          <p:cNvPr id="133"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 temperature inversion occurs when cool air near the Earth’s surface becomes trapped under a layer of warm air.  Normally, cool air is heated by the Earth’s surface and rises, taking pollutants with it.  But during a temperature inversion, the layer of warmer air acts as a lid and the pollutants are trapped in the cooler air near the surface.  In the 1940’s some died and others were hospitalized in Donora, PA during a temperature inversion.</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Acid Rain</a:t>
            </a:r>
            <a:endParaRPr b="0" lang="en-US" sz="4400" spc="-1" strike="noStrike">
              <a:solidFill>
                <a:srgbClr val="ffcc00"/>
              </a:solidFill>
              <a:latin typeface="Arial"/>
            </a:endParaRPr>
          </a:p>
        </p:txBody>
      </p:sp>
      <p:sp>
        <p:nvSpPr>
          <p:cNvPr id="13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actories and cars release many pollutants into the air.  Some of these pollutants include sulfur and nitrogen compounds called oxides.  In the atmosphere, sulfur oxides and nitrogen oxides combine with water vapor and form acids:  sulfuric and nitric.  These acids fall to Earth as precipitation known as acid rain.</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Problems with Acid Rain</a:t>
            </a:r>
            <a:endParaRPr b="0" lang="en-US" sz="4400" spc="-1" strike="noStrike">
              <a:solidFill>
                <a:srgbClr val="ffcc00"/>
              </a:solidFill>
              <a:latin typeface="Arial"/>
            </a:endParaRPr>
          </a:p>
        </p:txBody>
      </p:sp>
      <p:sp>
        <p:nvSpPr>
          <p:cNvPr id="137"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Very often acid rain falls many kilometers away from the original source of the pollution.  Acid rain from factories in Germany, France and Great Britain killed fish and trees in Sweden.  The best way to control acid rain is to burn low-sulfur coal but it is expensive.</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Indoor Air Pollution</a:t>
            </a:r>
            <a:endParaRPr b="0" lang="en-US" sz="4400" spc="-1" strike="noStrike">
              <a:solidFill>
                <a:srgbClr val="ffcc00"/>
              </a:solidFill>
              <a:latin typeface="Arial"/>
            </a:endParaRPr>
          </a:p>
        </p:txBody>
      </p:sp>
      <p:sp>
        <p:nvSpPr>
          <p:cNvPr id="139"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Indoor pollution is a serious problem.   Some appliances used in homes and offices give off potentially dangerous gases.  In addition, often the houses are insulated in order to be energy efficient. Pollutants that might otherwise escape through cracks are trapped inside.  One of the leading causes of indoor pollution is smoking.</a:t>
            </a:r>
            <a:endParaRPr b="0" lang="en-US" sz="3200" spc="-1" strike="noStrike">
              <a:solidFill>
                <a:srgbClr val="ffffcc"/>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Water Pollution</a:t>
            </a:r>
            <a:endParaRPr b="0" lang="en-US" sz="44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Water Pollution</a:t>
            </a:r>
            <a:endParaRPr b="0" lang="en-US" sz="4400" spc="-1" strike="noStrike">
              <a:solidFill>
                <a:srgbClr val="ffcc00"/>
              </a:solidFill>
              <a:latin typeface="Arial"/>
            </a:endParaRPr>
          </a:p>
        </p:txBody>
      </p:sp>
      <p:sp>
        <p:nvSpPr>
          <p:cNvPr id="142"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More and more of the water on Earth is becoming unusable.  One reason for a shortage of water is water pollution.  Obtaining and using energy resources are the major causes of water pollution.</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Pollution</a:t>
            </a:r>
            <a:endParaRPr b="0" lang="en-US" sz="4400" spc="-1" strike="noStrike">
              <a:solidFill>
                <a:srgbClr val="ffcc00"/>
              </a:solidFill>
              <a:latin typeface="Arial"/>
            </a:endParaRPr>
          </a:p>
        </p:txBody>
      </p:sp>
      <p:sp>
        <p:nvSpPr>
          <p:cNvPr id="93"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ollution is the release into the environment of substances that change the environment for the worse.  Most pollution is the result of human activities.</a:t>
            </a: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ources of Water Pollution</a:t>
            </a:r>
            <a:endParaRPr b="0" lang="en-US" sz="4400" spc="-1" strike="noStrike">
              <a:solidFill>
                <a:srgbClr val="ffcc00"/>
              </a:solidFill>
              <a:latin typeface="Arial"/>
            </a:endParaRPr>
          </a:p>
        </p:txBody>
      </p:sp>
      <p:sp>
        <p:nvSpPr>
          <p:cNvPr id="144"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cid Rain</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trip Mining</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Oil Spills</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Nuclear power</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Hazardous Wastes</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wage and Agricultural Runoff</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Acid Rain</a:t>
            </a:r>
            <a:endParaRPr b="0" lang="en-US" sz="4400" spc="-1" strike="noStrike">
              <a:solidFill>
                <a:srgbClr val="ffcc00"/>
              </a:solidFill>
              <a:latin typeface="Arial"/>
            </a:endParaRPr>
          </a:p>
        </p:txBody>
      </p:sp>
      <p:sp>
        <p:nvSpPr>
          <p:cNvPr id="146"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When acid rain falls into lakes, rivers and streams, they increase the acidity level of the water.  Most fishes and other organisms that live in water can survive in only a narrow range of acidity.  Acid rain kills many of the organisms living in the water. </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trip Mining</a:t>
            </a:r>
            <a:endParaRPr b="0" lang="en-US" sz="4400" spc="-1" strike="noStrike">
              <a:solidFill>
                <a:srgbClr val="ffcc00"/>
              </a:solidFill>
              <a:latin typeface="Arial"/>
            </a:endParaRPr>
          </a:p>
        </p:txBody>
      </p:sp>
      <p:sp>
        <p:nvSpPr>
          <p:cNvPr id="148"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trip mining for coal releases pollutants that may run off into lakes and streams or may seep in to the soil to contaminate groundwater.</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Oil Spills</a:t>
            </a:r>
            <a:endParaRPr b="0" lang="en-US" sz="4400" spc="-1" strike="noStrike">
              <a:solidFill>
                <a:srgbClr val="ffcc00"/>
              </a:solidFill>
              <a:latin typeface="Arial"/>
            </a:endParaRPr>
          </a:p>
        </p:txBody>
      </p:sp>
      <p:sp>
        <p:nvSpPr>
          <p:cNvPr id="150"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etroleum is often found under the ocean floor.  To obtain this petroleum, offshore oil wells are constructed. Drilling accidents occurs and large amounts of oil spill into the oceans. Oil spills also occur when tanker carrying oil are damaged. Tankers also deliberately flush waste oil into the ocean.  Plants and animals are killed.</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Nuclear Power</a:t>
            </a:r>
            <a:endParaRPr b="0" lang="en-US" sz="4400" spc="-1" strike="noStrike">
              <a:solidFill>
                <a:srgbClr val="ffcc00"/>
              </a:solidFill>
              <a:latin typeface="Arial"/>
            </a:endParaRPr>
          </a:p>
        </p:txBody>
      </p:sp>
      <p:sp>
        <p:nvSpPr>
          <p:cNvPr id="152"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Water is needed to cool the reactors in nuclear power plants.  Cold water from lakes and rivers is used for this process.  As a result of this a lot of hot water is generated.  This heated water is then discharged in to lakes.  This causes the temperature to rise. This temperature increase is called thermal pollution since organisms die when temperatures rise.</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Radioactive Wastes</a:t>
            </a:r>
            <a:endParaRPr b="0" lang="en-US" sz="4400" spc="-1" strike="noStrike">
              <a:solidFill>
                <a:srgbClr val="ffcc00"/>
              </a:solidFill>
              <a:latin typeface="Arial"/>
            </a:endParaRPr>
          </a:p>
        </p:txBody>
      </p:sp>
      <p:sp>
        <p:nvSpPr>
          <p:cNvPr id="154"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Radioactive wastes can also be a sources of ling-term water pollution.  Radioactive wastes stored in underground containers may leak and pollute groundwater.  Pollution of the oceans occurs if these wastes are dumped in the ocean.</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Hazardous Wastes</a:t>
            </a:r>
            <a:endParaRPr b="0" lang="en-US" sz="4400" spc="-1" strike="noStrike">
              <a:solidFill>
                <a:srgbClr val="ffcc00"/>
              </a:solidFill>
              <a:latin typeface="Arial"/>
            </a:endParaRPr>
          </a:p>
        </p:txBody>
      </p:sp>
      <p:sp>
        <p:nvSpPr>
          <p:cNvPr id="156"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rior to the 1970’s many industries dumped chemicals and other hazardous wastes directly into streams and other nearby bodies of water. Today they are not deposited directly into water, instead they are buried.  Often leaks occur and the groundwater is polluted. Illegal dumping, called midnight dumping, also occurs.</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ewage</a:t>
            </a:r>
            <a:endParaRPr b="0" lang="en-US" sz="4400" spc="-1" strike="noStrike">
              <a:solidFill>
                <a:srgbClr val="ffcc00"/>
              </a:solidFill>
              <a:latin typeface="Arial"/>
            </a:endParaRPr>
          </a:p>
        </p:txBody>
      </p:sp>
      <p:sp>
        <p:nvSpPr>
          <p:cNvPr id="158"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e greatest threat to human health comes form sewage.   Sewage is the waste material that is carried away by sewers and drains.  Sometimes it is dumped directly into streams. This sewage often contains disease-causing bacteria and viruses.  Drinking water may become contaminated. </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Danger to Fish</a:t>
            </a:r>
            <a:endParaRPr b="0" lang="en-US" sz="4400" spc="-1" strike="noStrike">
              <a:solidFill>
                <a:srgbClr val="ffcc00"/>
              </a:solidFill>
              <a:latin typeface="Arial"/>
            </a:endParaRPr>
          </a:p>
        </p:txBody>
      </p:sp>
      <p:sp>
        <p:nvSpPr>
          <p:cNvPr id="160"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sh living in polluted water are also unfit for human consumption.  Untreated sewage is also harmful to the fish and other organisms that live in the water.  Bacteria in the water break down the sewage.  In the process, the bacteria use oxygen.  If too much oxygen is used, fish  and other organism may die from lack of oxygen.</a:t>
            </a:r>
            <a:endParaRPr b="0" lang="en-US" sz="3200" spc="-1" strike="noStrike">
              <a:solidFill>
                <a:srgbClr val="ffffcc"/>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Agricultural Runoff</a:t>
            </a:r>
            <a:endParaRPr b="0" lang="en-US" sz="4400" spc="-1" strike="noStrike">
              <a:solidFill>
                <a:srgbClr val="ffcc00"/>
              </a:solidFill>
              <a:latin typeface="Arial"/>
            </a:endParaRPr>
          </a:p>
        </p:txBody>
      </p:sp>
      <p:sp>
        <p:nvSpPr>
          <p:cNvPr id="162"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e runoff of agricultural wastes and chemicals from farmlands also contributes to water pollution.  Chemicals such as Phosphates and nitrates are used in fertilizers to improve the growth of crops.  When fertilizers run off the land in to a lake, they stimulate the growth of algae. The algae then use up the oxygen in the lake. Pesticides also enter the water.</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he Trail of Pollution</a:t>
            </a:r>
            <a:endParaRPr b="0" lang="en-US" sz="4400" spc="-1" strike="noStrike">
              <a:solidFill>
                <a:srgbClr val="ffcc00"/>
              </a:solidFill>
              <a:latin typeface="Arial"/>
            </a:endParaRPr>
          </a:p>
        </p:txBody>
      </p:sp>
      <p:sp>
        <p:nvSpPr>
          <p:cNvPr id="95"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In order to make a can of soda, the aluminum must be removed from the ground.  Digging scars the land.  Chemicals used in the factory to produce aluminum become waste that is discarded and ends up in a river as pollutants.  The fuel burned to to make the aluminum into a can produces smoke that pollutes the air.  The process used to make the soda to go into the can also produces pollutants.  The consumer buying the can disposes of it as litter, another form of pollution.</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17160" y="49320"/>
            <a:ext cx="863748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What Can Be Done About Pollution?</a:t>
            </a:r>
            <a:endParaRPr b="0" lang="en-US" sz="4400" spc="-1" strike="noStrike">
              <a:solidFill>
                <a:srgbClr val="ffcc00"/>
              </a:solidFill>
              <a:latin typeface="Arial"/>
            </a:endParaRPr>
          </a:p>
        </p:txBody>
      </p:sp>
      <p:sp>
        <p:nvSpPr>
          <p:cNvPr id="164"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ollution can be reduced by conserving energy, by finding cleaner ways to use energy, and by making sure that wastes are disposed of in the safest possible ways.</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onservation</a:t>
            </a:r>
            <a:endParaRPr b="0" lang="en-US" sz="4400" spc="-1" strike="noStrike">
              <a:solidFill>
                <a:srgbClr val="ffcc00"/>
              </a:solidFill>
              <a:latin typeface="Arial"/>
            </a:endParaRPr>
          </a:p>
        </p:txBody>
      </p:sp>
      <p:sp>
        <p:nvSpPr>
          <p:cNvPr id="166"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onservation is the wise use of natural resources so that they will not used up too quickly or used in a way that will damage the environment. The environment benefits two ways.  First, nonrenewable resources last longer.  Second, pollution is reduced.</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Examples of Conservation</a:t>
            </a:r>
            <a:endParaRPr b="0" lang="en-US" sz="4400" spc="-1" strike="noStrike">
              <a:solidFill>
                <a:srgbClr val="ffcc00"/>
              </a:solidFill>
              <a:latin typeface="Arial"/>
            </a:endParaRPr>
          </a:p>
        </p:txBody>
      </p:sp>
      <p:sp>
        <p:nvSpPr>
          <p:cNvPr id="168"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Recycling </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arpooling</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ublic Transportation</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urning down the thermostat in the winter and turning up in the summer</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Insulate homes</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Use less water</a:t>
            </a:r>
            <a:endParaRPr b="0" lang="en-US" sz="3200" spc="-1" strike="noStrike">
              <a:solidFill>
                <a:srgbClr val="ffffcc"/>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New Technologies</a:t>
            </a:r>
            <a:endParaRPr b="0" lang="en-US" sz="4400" spc="-1" strike="noStrike">
              <a:solidFill>
                <a:srgbClr val="ffcc00"/>
              </a:solidFill>
              <a:latin typeface="Arial"/>
            </a:endParaRPr>
          </a:p>
        </p:txBody>
      </p:sp>
      <p:sp>
        <p:nvSpPr>
          <p:cNvPr id="170"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New technologies can reduce pollution by creating cleaner and more efficient ways of obtaining and using energy resources.  Technology can also help develop alternatives to fossil fuels.  </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crubber Systems</a:t>
            </a:r>
            <a:endParaRPr b="0" lang="en-US" sz="4400" spc="-1" strike="noStrike">
              <a:solidFill>
                <a:srgbClr val="ffcc00"/>
              </a:solidFill>
              <a:latin typeface="Arial"/>
            </a:endParaRPr>
          </a:p>
        </p:txBody>
      </p:sp>
      <p:sp>
        <p:nvSpPr>
          <p:cNvPr id="172"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e burning of coal has been made less damaging to the environment by the use of scrubber systems.  A scrubber system works like a shower.  As sulfur oxides are released from burning coal, a high-pressure spray of water dissolves the oxides before they can react with the water vapor.  They can be used on smokestacks.</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Oil Drilling and Spills</a:t>
            </a:r>
            <a:endParaRPr b="0" lang="en-US" sz="4400" spc="-1" strike="noStrike">
              <a:solidFill>
                <a:srgbClr val="ffcc00"/>
              </a:solidFill>
              <a:latin typeface="Arial"/>
            </a:endParaRPr>
          </a:p>
        </p:txBody>
      </p:sp>
      <p:sp>
        <p:nvSpPr>
          <p:cNvPr id="174"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New methods have been used to drill for oil under the ocean floor in order to reduce underwater leaks.  Several new methods have been developed for cleaning up oil spills with vacuum systems.  Oil-eating bacteria have also been  developed.</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Waste Disposal</a:t>
            </a:r>
            <a:endParaRPr b="0" lang="en-US" sz="4400" spc="-1" strike="noStrike">
              <a:solidFill>
                <a:srgbClr val="ffcc00"/>
              </a:solidFill>
              <a:latin typeface="Arial"/>
            </a:endParaRPr>
          </a:p>
        </p:txBody>
      </p:sp>
      <p:sp>
        <p:nvSpPr>
          <p:cNvPr id="176"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Hazardous waste should be separated from industrial waste.</a:t>
            </a:r>
            <a:endParaRPr b="0" lang="en-US" sz="32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Hazardous waste should be reused or recycled when possible.</a:t>
            </a:r>
            <a:endParaRPr b="0" lang="en-US" sz="32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e waste should be treated chemically to destroy the toxic materials they contain.</a:t>
            </a:r>
            <a:endParaRPr b="0" lang="en-US" sz="3200" spc="-1" strike="noStrike">
              <a:solidFill>
                <a:srgbClr val="ffffcc"/>
              </a:solidFill>
              <a:latin typeface="Arial"/>
            </a:endParaRPr>
          </a:p>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e wastes should be buried in landfills with many safeguards to prevent leaks.</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Everyone’s Responsibility</a:t>
            </a:r>
            <a:endParaRPr b="0" lang="en-US" sz="4400" spc="-1" strike="noStrike">
              <a:solidFill>
                <a:srgbClr val="ffcc00"/>
              </a:solidFill>
              <a:latin typeface="Arial"/>
            </a:endParaRPr>
          </a:p>
        </p:txBody>
      </p:sp>
      <p:sp>
        <p:nvSpPr>
          <p:cNvPr id="178"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Pollution is mainly caused by the activities of people.  It is important to realize that the activities of people can also reduce pollution.  Everyone can help!</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ources and Solutions</a:t>
            </a:r>
            <a:endParaRPr b="0" lang="en-US" sz="4400" spc="-1" strike="noStrike">
              <a:solidFill>
                <a:srgbClr val="ffcc00"/>
              </a:solidFill>
              <a:latin typeface="Arial"/>
            </a:endParaRPr>
          </a:p>
        </p:txBody>
      </p:sp>
      <p:sp>
        <p:nvSpPr>
          <p:cNvPr id="97"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A great amount of pollution is tied directly to energy use. The world’s heavy dependence on fossil fuels has made pollution a major concern.  The activities involved in finding and using fossil fuels have led to land, air and water pollution.</a:t>
            </a:r>
            <a:endParaRPr b="0" lang="en-US" sz="2800" spc="-1" strike="noStrike">
              <a:solidFill>
                <a:srgbClr val="ffffcc"/>
              </a:solidFill>
              <a:latin typeface="Arial"/>
            </a:endParaRPr>
          </a:p>
          <a:p>
            <a:pPr marL="343080" indent="-343080">
              <a:spcBef>
                <a:spcPts val="700"/>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Arial"/>
              </a:rPr>
              <a:t>Solutions can involve new ways to regulate and reuse materials.  Solutions can also involve alternative energy to replace fossil fuels.</a:t>
            </a:r>
            <a:endParaRPr b="0" lang="en-US" sz="2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Main Types of Pollution</a:t>
            </a:r>
            <a:endParaRPr b="0" lang="en-US" sz="4400" spc="-1" strike="noStrike">
              <a:solidFill>
                <a:srgbClr val="ffcc00"/>
              </a:solidFill>
              <a:latin typeface="Arial"/>
            </a:endParaRPr>
          </a:p>
        </p:txBody>
      </p:sp>
      <p:sp>
        <p:nvSpPr>
          <p:cNvPr id="99"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Land</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Air</a:t>
            </a:r>
            <a:endParaRPr b="0" lang="en-US" sz="3200" spc="-1" strike="noStrike">
              <a:solidFill>
                <a:srgbClr val="ffffcc"/>
              </a:solidFill>
              <a:latin typeface="Arial"/>
            </a:endParaRPr>
          </a:p>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Water</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Land Pollution</a:t>
            </a:r>
            <a:endParaRPr b="0" lang="en-US" sz="44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Land Pollution</a:t>
            </a:r>
            <a:endParaRPr b="0" lang="en-US" sz="4400" spc="-1" strike="noStrike">
              <a:solidFill>
                <a:srgbClr val="ffcc00"/>
              </a:solidFill>
              <a:latin typeface="Arial"/>
            </a:endParaRPr>
          </a:p>
        </p:txBody>
      </p:sp>
      <p:sp>
        <p:nvSpPr>
          <p:cNvPr id="102"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Most of the energy (90%) used comes form fossil fuels.  Solar, wind, water and other alternative energy resources account for only 5%.  Nuclear energy accounts for the other 5%. Obtaining both fossil fuels and nuclear energy can pollute the Earth.</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oal</a:t>
            </a:r>
            <a:endParaRPr b="0" lang="en-US" sz="4400" spc="-1" strike="noStrike">
              <a:solidFill>
                <a:srgbClr val="ffcc00"/>
              </a:solidFill>
              <a:latin typeface="Arial"/>
            </a:endParaRPr>
          </a:p>
        </p:txBody>
      </p:sp>
      <p:sp>
        <p:nvSpPr>
          <p:cNvPr id="104"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e use of coal was an important step in the industrialization of the United States.  Coal near the surface is strip mined.  This process badly damages the land and causes soil and land pollution.  Fertile topsoil is buried under tons of rock. When the rock is exposed to precipitation, acids and other harmful chemical seep into the ground, polluting the soil and land.</a:t>
            </a:r>
            <a:endParaRPr b="0" lang="en-US" sz="3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8T23:13:24Z</dcterms:created>
  <dc:creator>user</dc:creator>
  <dc:description/>
  <dc:language>en-US</dc:language>
  <cp:lastModifiedBy>user</cp:lastModifiedBy>
  <dcterms:modified xsi:type="dcterms:W3CDTF">2006-08-28T04:03:37Z</dcterms:modified>
  <cp:revision>9</cp:revision>
  <dc:subject/>
  <dc:title>Pollution</dc:title>
</cp:coreProperties>
</file>